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FDC-3280-48FC-9CBE-3FCA2E16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1A-FD81-43BE-AF96-B24DD946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368-67BE-40CA-9BC7-8D1408FE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047-D059-48C8-8883-226D58A6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281-4EF3-4AF3-9972-B62CBCB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3FF-89CE-4A73-984B-0718FB38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F5F-612D-49B6-9E71-D6F4965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688-5EC5-4357-BD96-E9BC2067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F8D-6131-4CA6-A347-BAF8C764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C7D-4E33-4B6D-A7C0-92C4C39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543-1141-4A6A-9B59-20D3358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40E-0B87-43AF-BA67-EC70B00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559-0E9E-48AA-9ED6-7FFC63A2A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127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3454560" cy="230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-34920" y="3048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an Dr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6019920" y="3124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ysa Al-Tumre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2971800" y="4343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bboule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12" descr=""/>
          <p:cNvPicPr/>
          <p:nvPr/>
        </p:nvPicPr>
        <p:blipFill>
          <a:blip r:embed="rId4"/>
          <a:stretch/>
        </p:blipFill>
        <p:spPr>
          <a:xfrm>
            <a:off x="1122480" y="0"/>
            <a:ext cx="61801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9:50:48Z</dcterms:created>
  <dc:creator>teacher</dc:creator>
  <dc:description/>
  <dc:language>en-US</dc:language>
  <cp:lastModifiedBy>David Brienza</cp:lastModifiedBy>
  <dcterms:modified xsi:type="dcterms:W3CDTF">2013-04-30T00:29:21Z</dcterms:modified>
  <cp:revision>4</cp:revision>
  <dc:subject/>
  <dc:title>Unique Foods</dc:title>
</cp:coreProperties>
</file>